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4022280" y="-360"/>
            <a:ext cx="30783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204920" y="703440"/>
            <a:ext cx="4694400" cy="35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711360" y="4458960"/>
            <a:ext cx="5680080" cy="4226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B8642-E7DC-41DB-99FF-0F645A8A99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DAFD3-48C2-4511-86E5-C489D7CB7B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206360" y="704880"/>
            <a:ext cx="4691160" cy="351792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47520" y="4457880"/>
            <a:ext cx="5206680" cy="42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2E14D-86DB-4BE2-8431-A9DBA20875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06360" y="704880"/>
            <a:ext cx="4691160" cy="351792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47520" y="4457880"/>
            <a:ext cx="5206680" cy="42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502F9-5FBD-4FBA-8265-2A786EAC22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06360" y="704880"/>
            <a:ext cx="4691160" cy="351792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47520" y="4457880"/>
            <a:ext cx="5206680" cy="42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337B8-C1C5-4ECE-8C2F-0B4367B58C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206360" y="704880"/>
            <a:ext cx="4691160" cy="351792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47520" y="4457880"/>
            <a:ext cx="5206680" cy="42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79D44-227B-49EC-8887-B0094A441F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62080" y="695160"/>
            <a:ext cx="4732200" cy="35499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29880" y="4475160"/>
            <a:ext cx="5189400" cy="42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6C1E0-6841-473D-9DE2-41CBC2695E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62080" y="695160"/>
            <a:ext cx="4732200" cy="35499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29880" y="4475160"/>
            <a:ext cx="5189400" cy="42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65615-D2FB-4477-AF23-CB5B74392F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441440" y="863640"/>
            <a:ext cx="4221000" cy="316548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47520" y="4457520"/>
            <a:ext cx="52066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4739C-2398-41E0-AAD1-A1FA0811D0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441440" y="863640"/>
            <a:ext cx="4221000" cy="316548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47520" y="4457520"/>
            <a:ext cx="52066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B7A67-3F25-40F7-AFAB-D2148DF969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06360" y="704880"/>
            <a:ext cx="4691160" cy="351792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47520" y="4457880"/>
            <a:ext cx="5206680" cy="42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B89D-FBA9-4E9D-9353-7BCA0D0B6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CA68-F3E8-4D91-A3E1-2A21CDDF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8E88-F733-44D0-9E5E-AB5F75CB0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08E2-5B65-445A-BBC6-FA94554D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22C0-1F31-4493-8B78-AA7BC7DFF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C8CB-8263-4B4A-9429-803D31D3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7DAB-2EAC-436C-A344-E7EBE411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B2C7-229D-4009-B338-5BEDE925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0D7A-238E-4878-9FDB-99CA630E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BD7F-FFD1-4F84-BCD2-98C7AD7D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7537-1C7C-4270-88C4-9270978A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8FB9-9A47-4708-A8C1-7674CE6F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24CD-C467-4355-AA9A-E0E68638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26B1-95E1-4008-A7D0-01883AD5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56AF-9852-4462-B810-768DC049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42C6-C860-4609-ABE6-767063F67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D8D9-7E1E-4309-9199-821CAAD0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6BA7-7313-432B-95D8-74F44FFD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C8CC-B626-4ACA-941F-4E9AC152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4110-A4D1-4A17-B9FE-E3D2215C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0348-3400-4170-9A62-8E2521EC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A425-6A24-4329-803F-16406EC7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9AA9-E4C2-47F2-87B5-74BDBF36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0D80-0754-4263-AFAF-1D2842D8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2E01-7B9E-4136-8C39-F8B5C7794E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F08C-377B-4C5F-BF4D-6B78036952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Redes Inalámbric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476360" y="2565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laneación de redes inalámb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anancia de ant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n la vida nunca se obtiene “algo por nada”, lo mismo aplica en la ganancia de las ante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i la ganancia de una antena sube, el área de cobertura o ángulo, baj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Áreas de cobertura o patrones de radiación son medidos en grad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os ángulos son referidos como ancho del haz y tienen medición horizontal y vertic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eoría de ante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na antena teórica (Isot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ica) tiene una perfecta cobertura de 360 grados en horizontal y vertic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to es una referencia para cualquier ante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5219640" y="2205000"/>
            <a:ext cx="3924360" cy="2879640"/>
            <a:chOff x="5219640" y="2205000"/>
            <a:chExt cx="3924360" cy="2879640"/>
          </a:xfrm>
        </p:grpSpPr>
        <p:sp>
          <p:nvSpPr>
            <p:cNvPr id="425" name=""/>
            <p:cNvSpPr/>
            <p:nvPr/>
          </p:nvSpPr>
          <p:spPr>
            <a:xfrm>
              <a:off x="5219640" y="2205000"/>
              <a:ext cx="1440000" cy="1368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940360" y="2565360"/>
              <a:ext cx="0" cy="64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948360" y="2492280"/>
              <a:ext cx="194472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 anchorCtr="1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ista de l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Patrón vertica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219640" y="3716280"/>
              <a:ext cx="1440000" cy="1368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732720" y="4003560"/>
              <a:ext cx="241128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 anchorCtr="1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ista superi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Patrón Horizonta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940360" y="4365720"/>
              <a:ext cx="71640" cy="71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eoría de antena dipo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obtener ganancia omnidireccional desde una antena isot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ica, los lóbulos de energía son “empujados” desde la parte de arriba y abajo y forzados a salir en un patrón parecido a una d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entras mas alta es la ganancia menor es el ángulo vertical y mayor es el área cubierta por el lóbulo horizo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mnidireccionales de alta gana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89080" indent="-289080"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ntenas omnidireccionales de alta ganancia crean mas área cubierta en distancias largas, pero los niveles de energía directamente debajo de la antena son bajos y la cobertura ahí es muy pob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4500720" y="2133720"/>
            <a:ext cx="4032000" cy="1720440"/>
            <a:chOff x="4500720" y="2133720"/>
            <a:chExt cx="4032000" cy="1720440"/>
          </a:xfrm>
        </p:grpSpPr>
        <p:sp>
          <p:nvSpPr>
            <p:cNvPr id="436" name=""/>
            <p:cNvSpPr/>
            <p:nvPr/>
          </p:nvSpPr>
          <p:spPr>
            <a:xfrm>
              <a:off x="4500720" y="2349360"/>
              <a:ext cx="2016000" cy="5050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16720" y="2349360"/>
              <a:ext cx="2016000" cy="5050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16720" y="2349360"/>
              <a:ext cx="0" cy="505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724360" y="2781360"/>
              <a:ext cx="1584360" cy="36036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48360" y="3213000"/>
              <a:ext cx="3166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 anchorCtr="1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ea de baja cobertura directamente bajo la ante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16720" y="2708280"/>
              <a:ext cx="1655640" cy="36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6516720" y="2133720"/>
              <a:ext cx="1584360" cy="358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885080" y="2205000"/>
              <a:ext cx="0" cy="792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516720" y="2421000"/>
              <a:ext cx="144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 anchorCtr="1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cho de ha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 tan lej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sensibilidad de recepción del radio es mas alta para bajos rangos de velocidad, de esta manera enlaces de larga distancia pueden ser logrados operando los radios a bajas velocidades c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tenas de alta gananc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bles de baja perdid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dios de alta potenc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dios de alta sensibilida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jor ambiente (menos humedad e interferencia desde otras fuentes de radiofrecue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6858000" y="3276720"/>
            <a:ext cx="1943280" cy="180972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5181480" y="3276720"/>
            <a:ext cx="1667160" cy="180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tancias máx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.4GHz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la distancia máxima entre un cliente y un punto de acceso típicamente no es mayor que 10-12k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5GHz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Hemos probado conexiones de 25 km con antenas de 18dBi, usando antenas de 25dBi se puede obtener a estas distancias un rendimiento entre redes de 10Mbps con facilid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 tan rápi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“DATA RATE” indica que tan rápido la RF pasa datos. Este RF incluye el overhead del sistema de radio, MAS los datos de 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HROUGHPUT” es la ACTUAL cantidad de datos de RED que pasan de una RED a otra. Recuerde que altos “DATA RATES” no significan “ALTOS THROUGHPUT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quetes pequeños tienen un overhead mas gr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ja calidad de señales de RF requieren de retransmisiones y  bajan e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dimiento (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hroughp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uantos clientes inalámbricos se conectan a un punto de acces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sta 2007 clientes inalámbr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dimien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l sistema depende del uso; cuantas computadoras están conectadas detrás de los clientes ruteadores y cuanta información es mand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mejor rendimiento no conecte mas de 30-40 redes con máximo 50 PC’s cada 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e control de ancho de banda con los clientes para asegurar que usen el ancho de banda asig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gunos proveedores reportan 70-90 clientes por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uantos clientes o LANS a un rutead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ntos como tarjetas ethernet tenga el rute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ternativamente pueden usar switchs con capacidad de VLANS conectado a un radio que las sopor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572000" y="4654440"/>
            <a:ext cx="1150920" cy="50328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851280" y="5589720"/>
            <a:ext cx="792000" cy="43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788000" y="5589720"/>
            <a:ext cx="792000" cy="43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_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724360" y="5589720"/>
            <a:ext cx="792360" cy="43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_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435640" y="48704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643280" y="5157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435640" y="5157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4" name=""/>
          <p:cNvCxnSpPr>
            <a:stCxn id="458" idx="0"/>
            <a:endCxn id="462" idx="0"/>
          </p:cNvCxnSpPr>
          <p:nvPr/>
        </p:nvCxnSpPr>
        <p:spPr>
          <a:xfrm flipV="1">
            <a:off x="4248000" y="5157360"/>
            <a:ext cx="39600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5" name=""/>
          <p:cNvCxnSpPr>
            <a:stCxn id="459" idx="0"/>
            <a:endCxn id="457" idx="3"/>
          </p:cNvCxnSpPr>
          <p:nvPr/>
        </p:nvCxnSpPr>
        <p:spPr>
          <a:xfrm flipH="1" flipV="1">
            <a:off x="5084280" y="5157360"/>
            <a:ext cx="10080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6" name=""/>
          <p:cNvCxnSpPr>
            <a:stCxn id="460" idx="0"/>
            <a:endCxn id="463" idx="0"/>
          </p:cNvCxnSpPr>
          <p:nvPr/>
        </p:nvCxnSpPr>
        <p:spPr>
          <a:xfrm flipH="1" flipV="1">
            <a:off x="5579640" y="5157360"/>
            <a:ext cx="54216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7" name=""/>
          <p:cNvSpPr/>
          <p:nvPr/>
        </p:nvSpPr>
        <p:spPr>
          <a:xfrm>
            <a:off x="4067280" y="3933720"/>
            <a:ext cx="1152360" cy="576360"/>
          </a:xfrm>
          <a:prstGeom prst="wedgeRectCallout">
            <a:avLst>
              <a:gd name="adj1" fmla="val -46004"/>
              <a:gd name="adj2" fmla="val 12190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556000" y="4365720"/>
            <a:ext cx="1368360" cy="108108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LAMBR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780000" y="5014800"/>
            <a:ext cx="79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573000">
            <a:off x="1474560" y="4149720"/>
            <a:ext cx="444240" cy="936720"/>
          </a:xfrm>
          <a:custGeom>
            <a:avLst/>
            <a:gdLst/>
            <a:ahLst/>
            <a:rect l="l" t="t" r="r" b="b"/>
            <a:pathLst>
              <a:path w="189" h="454">
                <a:moveTo>
                  <a:pt x="0" y="0"/>
                </a:moveTo>
                <a:cubicBezTo>
                  <a:pt x="86" y="75"/>
                  <a:pt x="173" y="151"/>
                  <a:pt x="181" y="227"/>
                </a:cubicBezTo>
                <a:cubicBezTo>
                  <a:pt x="189" y="303"/>
                  <a:pt x="68" y="416"/>
                  <a:pt x="45" y="454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906560" y="4606920"/>
            <a:ext cx="649440" cy="407880"/>
          </a:xfrm>
          <a:custGeom>
            <a:avLst/>
            <a:gdLst/>
            <a:ahLst/>
            <a:rect l="l" t="t" r="r" b="b"/>
            <a:pathLst>
              <a:path w="409" h="257">
                <a:moveTo>
                  <a:pt x="0" y="30"/>
                </a:moveTo>
                <a:cubicBezTo>
                  <a:pt x="91" y="15"/>
                  <a:pt x="182" y="0"/>
                  <a:pt x="227" y="30"/>
                </a:cubicBezTo>
                <a:cubicBezTo>
                  <a:pt x="272" y="60"/>
                  <a:pt x="243" y="173"/>
                  <a:pt x="273" y="211"/>
                </a:cubicBezTo>
                <a:cubicBezTo>
                  <a:pt x="303" y="249"/>
                  <a:pt x="386" y="249"/>
                  <a:pt x="409" y="25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547640" y="4654440"/>
            <a:ext cx="358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ínea de V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ínea de vista es OBLIGATORIA para cualquier instalación en enlaces de 2.4GHz y 5G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edif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cer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árboles (las hojas contienen agua que absorbe la energía de R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curvatura de la tierra debe ser tomada en cuenta cuando se instalan las ant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pologías de 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ceptos de Ant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lanea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 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sta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agnosticando la insta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egurando tu 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lculo de línea de v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línea de vista desaparece a los 10km por causa de la curvatura de la tier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979640" y="3284640"/>
            <a:ext cx="4680000" cy="1258920"/>
          </a:xfrm>
          <a:custGeom>
            <a:avLst/>
            <a:gdLst/>
            <a:ahLst/>
            <a:rect l="l" t="t" r="r" b="b"/>
            <a:pathLst>
              <a:path w="3023" h="612">
                <a:moveTo>
                  <a:pt x="3023" y="612"/>
                </a:moveTo>
                <a:cubicBezTo>
                  <a:pt x="2732" y="408"/>
                  <a:pt x="2441" y="204"/>
                  <a:pt x="2116" y="113"/>
                </a:cubicBezTo>
                <a:cubicBezTo>
                  <a:pt x="1791" y="22"/>
                  <a:pt x="1398" y="0"/>
                  <a:pt x="1073" y="68"/>
                </a:cubicBezTo>
                <a:cubicBezTo>
                  <a:pt x="748" y="136"/>
                  <a:pt x="332" y="438"/>
                  <a:pt x="166" y="521"/>
                </a:cubicBezTo>
                <a:cubicBezTo>
                  <a:pt x="0" y="604"/>
                  <a:pt x="37" y="585"/>
                  <a:pt x="75" y="56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700360" y="33577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340000" y="3213000"/>
            <a:ext cx="3672000" cy="21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66920" y="3429000"/>
            <a:ext cx="43200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5724000" y="3213000"/>
            <a:ext cx="28764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Zona de fres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1280" y="4076640"/>
            <a:ext cx="8229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Zona de fresnel es el área alrededor de la línea de vista donde las ondas de rad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a área debe estar libre de obstáculos, de otra manera la fuerza y la calidad de la señal ira a la ba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908000" y="2133720"/>
            <a:ext cx="532944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908000" y="2421000"/>
            <a:ext cx="532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284720" y="2133720"/>
            <a:ext cx="21600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1692360" y="2205000"/>
            <a:ext cx="215640" cy="432000"/>
            <a:chOff x="1692360" y="2205000"/>
            <a:chExt cx="215640" cy="432000"/>
          </a:xfrm>
        </p:grpSpPr>
        <p:sp>
          <p:nvSpPr>
            <p:cNvPr id="488" name=""/>
            <p:cNvSpPr/>
            <p:nvPr/>
          </p:nvSpPr>
          <p:spPr>
            <a:xfrm>
              <a:off x="1692360" y="2205000"/>
              <a:ext cx="144360" cy="432000"/>
            </a:xfrm>
            <a:custGeom>
              <a:avLst/>
              <a:gdLst/>
              <a:ahLst/>
              <a:rect l="l" t="t" r="r" b="b"/>
              <a:pathLst>
                <a:path w="91" h="272">
                  <a:moveTo>
                    <a:pt x="91" y="0"/>
                  </a:moveTo>
                  <a:cubicBezTo>
                    <a:pt x="45" y="45"/>
                    <a:pt x="0" y="91"/>
                    <a:pt x="0" y="136"/>
                  </a:cubicBezTo>
                  <a:cubicBezTo>
                    <a:pt x="0" y="181"/>
                    <a:pt x="76" y="249"/>
                    <a:pt x="91" y="27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92360" y="242100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7236000" y="2205000"/>
            <a:ext cx="14436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7308720" y="24919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ree"/>
          <p:cNvSpPr/>
          <p:nvPr/>
        </p:nvSpPr>
        <p:spPr>
          <a:xfrm>
            <a:off x="5724360" y="2565360"/>
            <a:ext cx="576360" cy="79236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ree"/>
          <p:cNvSpPr/>
          <p:nvPr/>
        </p:nvSpPr>
        <p:spPr>
          <a:xfrm>
            <a:off x="5076720" y="2637000"/>
            <a:ext cx="576360" cy="79200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ree"/>
          <p:cNvSpPr/>
          <p:nvPr/>
        </p:nvSpPr>
        <p:spPr>
          <a:xfrm>
            <a:off x="5219640" y="2565360"/>
            <a:ext cx="720720" cy="10796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692360" y="2421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020000" y="2852640"/>
            <a:ext cx="936720" cy="720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971640" y="2997360"/>
            <a:ext cx="936360" cy="576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ptimizando el fres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Arial"/>
              </a:rPr>
              <a:t>Construya una estructura alta (torre) donde montar la anten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Arial"/>
              </a:rPr>
              <a:t>Incremente la altura de la torre existent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Arial"/>
              </a:rPr>
              <a:t>Localice un diferente punto de montaje para la anten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Arial"/>
              </a:rPr>
              <a:t>Corte los árboles problemáticos  </a:t>
            </a:r>
            <a:r>
              <a:rPr b="0" lang="es-ES_tradnl" sz="33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lidad de señ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señales Multipath pueden causar altas tasas de fuerza de señal de RF, pero pobres niveles de calidad de se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sumiendo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jos niveles de FUERZA de RF no significan pobre comunic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jos niveles de calidad SIGNIFICAN pobre comun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tección del amb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ectores deben ser sellados para protegerlos de la corro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e cinta vulcanizable, recom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inta aislante de vinilo NO es recomendabl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ineación de la ant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juste la antena y manteng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larización adecu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ineación horizo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ineación ver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entras ajusta, de ser posible, verifi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ivel de señ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ueba de ancho de banda si el radio lo perm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tenas de alta ganancia son mas difíciles de orientar que las de baja ganancia debido a la estrechez del h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 rot="1268400">
            <a:off x="6588000" y="2276640"/>
            <a:ext cx="1871640" cy="156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en su red inalámb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tenga una lista de direcciones MAC de los clientes que se conectan a su Punto de Acceso (A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uede usar encr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 wep, pero hará su red mas lenta y adicionalmente ya es una seguridad “insegur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e W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opologías de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unto a punto o Punto Multipu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ridge o rute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DS adiciona nuevas características para 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364000" y="1916280"/>
            <a:ext cx="505080" cy="1441440"/>
            <a:chOff x="5364000" y="1916280"/>
            <a:chExt cx="505080" cy="1441440"/>
          </a:xfrm>
        </p:grpSpPr>
        <p:sp>
          <p:nvSpPr>
            <p:cNvPr id="225" name=""/>
            <p:cNvSpPr/>
            <p:nvPr/>
          </p:nvSpPr>
          <p:spPr>
            <a:xfrm>
              <a:off x="5435640" y="3068640"/>
              <a:ext cx="43164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64000" y="1916280"/>
              <a:ext cx="505080" cy="360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7" name=""/>
            <p:cNvCxnSpPr>
              <a:stCxn id="226" idx="2"/>
              <a:endCxn id="225" idx="0"/>
            </p:cNvCxnSpPr>
            <p:nvPr/>
          </p:nvCxnSpPr>
          <p:spPr>
            <a:xfrm>
              <a:off x="5616360" y="2276640"/>
              <a:ext cx="35640" cy="79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228" name=""/>
          <p:cNvGrpSpPr/>
          <p:nvPr/>
        </p:nvGrpSpPr>
        <p:grpSpPr>
          <a:xfrm>
            <a:off x="6515280" y="1989000"/>
            <a:ext cx="2089080" cy="1225800"/>
            <a:chOff x="6515280" y="1989000"/>
            <a:chExt cx="2089080" cy="1225800"/>
          </a:xfrm>
        </p:grpSpPr>
        <p:sp>
          <p:nvSpPr>
            <p:cNvPr id="229" name=""/>
            <p:cNvSpPr/>
            <p:nvPr/>
          </p:nvSpPr>
          <p:spPr>
            <a:xfrm>
              <a:off x="6515280" y="2925720"/>
              <a:ext cx="43164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91280" y="2925720"/>
              <a:ext cx="43200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67640" y="2925720"/>
              <a:ext cx="43164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236000" y="1989000"/>
              <a:ext cx="504720" cy="3603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172360" y="2925720"/>
              <a:ext cx="43200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4" name=""/>
            <p:cNvCxnSpPr>
              <a:stCxn id="229" idx="0"/>
              <a:endCxn id="232" idx="2"/>
            </p:cNvCxnSpPr>
            <p:nvPr/>
          </p:nvCxnSpPr>
          <p:spPr>
            <a:xfrm flipV="1">
              <a:off x="6730920" y="2348640"/>
              <a:ext cx="75816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5" name=""/>
            <p:cNvCxnSpPr>
              <a:stCxn id="230" idx="0"/>
              <a:endCxn id="232" idx="2"/>
            </p:cNvCxnSpPr>
            <p:nvPr/>
          </p:nvCxnSpPr>
          <p:spPr>
            <a:xfrm flipV="1">
              <a:off x="7306920" y="2348640"/>
              <a:ext cx="18180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6" name=""/>
            <p:cNvCxnSpPr>
              <a:stCxn id="231" idx="0"/>
              <a:endCxn id="232" idx="2"/>
            </p:cNvCxnSpPr>
            <p:nvPr/>
          </p:nvCxnSpPr>
          <p:spPr>
            <a:xfrm flipH="1" flipV="1">
              <a:off x="7488000" y="2348640"/>
              <a:ext cx="39600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7" name=""/>
            <p:cNvCxnSpPr>
              <a:stCxn id="233" idx="0"/>
              <a:endCxn id="232" idx="2"/>
            </p:cNvCxnSpPr>
            <p:nvPr/>
          </p:nvCxnSpPr>
          <p:spPr>
            <a:xfrm flipH="1" flipV="1">
              <a:off x="7488000" y="2348640"/>
              <a:ext cx="90072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238" name=""/>
          <p:cNvGrpSpPr/>
          <p:nvPr/>
        </p:nvGrpSpPr>
        <p:grpSpPr>
          <a:xfrm>
            <a:off x="4427640" y="3933720"/>
            <a:ext cx="4394160" cy="1225800"/>
            <a:chOff x="4427640" y="3933720"/>
            <a:chExt cx="4394160" cy="1225800"/>
          </a:xfrm>
        </p:grpSpPr>
        <p:sp>
          <p:nvSpPr>
            <p:cNvPr id="239" name=""/>
            <p:cNvSpPr/>
            <p:nvPr/>
          </p:nvSpPr>
          <p:spPr>
            <a:xfrm>
              <a:off x="6732720" y="4870440"/>
              <a:ext cx="43164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08720" y="4870440"/>
              <a:ext cx="43200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85080" y="4870440"/>
              <a:ext cx="43200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53440" y="3933720"/>
              <a:ext cx="504720" cy="3603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89800" y="4870440"/>
              <a:ext cx="43200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4" name=""/>
            <p:cNvCxnSpPr>
              <a:stCxn id="239" idx="0"/>
              <a:endCxn id="242" idx="2"/>
            </p:cNvCxnSpPr>
            <p:nvPr/>
          </p:nvCxnSpPr>
          <p:spPr>
            <a:xfrm flipV="1">
              <a:off x="6948360" y="4293360"/>
              <a:ext cx="75816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5" name=""/>
            <p:cNvCxnSpPr>
              <a:stCxn id="240" idx="0"/>
              <a:endCxn id="242" idx="2"/>
            </p:cNvCxnSpPr>
            <p:nvPr/>
          </p:nvCxnSpPr>
          <p:spPr>
            <a:xfrm flipV="1">
              <a:off x="7524360" y="4293360"/>
              <a:ext cx="18180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6" name=""/>
            <p:cNvCxnSpPr>
              <a:stCxn id="241" idx="0"/>
              <a:endCxn id="242" idx="2"/>
            </p:cNvCxnSpPr>
            <p:nvPr/>
          </p:nvCxnSpPr>
          <p:spPr>
            <a:xfrm flipH="1" flipV="1">
              <a:off x="7705440" y="4293360"/>
              <a:ext cx="39600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7" name=""/>
            <p:cNvCxnSpPr>
              <a:stCxn id="243" idx="0"/>
              <a:endCxn id="242" idx="2"/>
            </p:cNvCxnSpPr>
            <p:nvPr/>
          </p:nvCxnSpPr>
          <p:spPr>
            <a:xfrm flipH="1" flipV="1">
              <a:off x="7705440" y="4293360"/>
              <a:ext cx="90072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8" name=""/>
            <p:cNvSpPr/>
            <p:nvPr/>
          </p:nvSpPr>
          <p:spPr>
            <a:xfrm>
              <a:off x="4427640" y="4870440"/>
              <a:ext cx="43164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003640" y="4870440"/>
              <a:ext cx="43200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80000" y="4870440"/>
              <a:ext cx="43200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48360" y="3933720"/>
              <a:ext cx="504720" cy="3603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84720" y="4870440"/>
              <a:ext cx="43200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3" name=""/>
            <p:cNvCxnSpPr>
              <a:stCxn id="248" idx="0"/>
              <a:endCxn id="251" idx="2"/>
            </p:cNvCxnSpPr>
            <p:nvPr/>
          </p:nvCxnSpPr>
          <p:spPr>
            <a:xfrm flipV="1">
              <a:off x="4643280" y="4293360"/>
              <a:ext cx="75816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4" name=""/>
            <p:cNvCxnSpPr>
              <a:stCxn id="249" idx="0"/>
              <a:endCxn id="251" idx="2"/>
            </p:cNvCxnSpPr>
            <p:nvPr/>
          </p:nvCxnSpPr>
          <p:spPr>
            <a:xfrm flipV="1">
              <a:off x="5219280" y="4293360"/>
              <a:ext cx="18180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5" name=""/>
            <p:cNvCxnSpPr>
              <a:stCxn id="250" idx="0"/>
              <a:endCxn id="251" idx="2"/>
            </p:cNvCxnSpPr>
            <p:nvPr/>
          </p:nvCxnSpPr>
          <p:spPr>
            <a:xfrm flipH="1" flipV="1">
              <a:off x="5400360" y="4293360"/>
              <a:ext cx="39600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6" name=""/>
            <p:cNvCxnSpPr>
              <a:stCxn id="252" idx="0"/>
              <a:endCxn id="251" idx="2"/>
            </p:cNvCxnSpPr>
            <p:nvPr/>
          </p:nvCxnSpPr>
          <p:spPr>
            <a:xfrm flipH="1" flipV="1">
              <a:off x="5400360" y="4293360"/>
              <a:ext cx="90072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7" name=""/>
            <p:cNvCxnSpPr>
              <a:stCxn id="251" idx="3"/>
              <a:endCxn id="242" idx="1"/>
            </p:cNvCxnSpPr>
            <p:nvPr/>
          </p:nvCxnSpPr>
          <p:spPr>
            <a:xfrm>
              <a:off x="5652720" y="4114440"/>
              <a:ext cx="1801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</p:cxnSp>
      </p:grpSp>
      <p:grpSp>
        <p:nvGrpSpPr>
          <p:cNvPr id="258" name=""/>
          <p:cNvGrpSpPr/>
          <p:nvPr/>
        </p:nvGrpSpPr>
        <p:grpSpPr>
          <a:xfrm>
            <a:off x="5292720" y="5589720"/>
            <a:ext cx="2664000" cy="360360"/>
            <a:chOff x="5292720" y="5589720"/>
            <a:chExt cx="2664000" cy="360360"/>
          </a:xfrm>
        </p:grpSpPr>
        <p:sp>
          <p:nvSpPr>
            <p:cNvPr id="259" name=""/>
            <p:cNvSpPr/>
            <p:nvPr/>
          </p:nvSpPr>
          <p:spPr>
            <a:xfrm>
              <a:off x="7451640" y="5589720"/>
              <a:ext cx="505080" cy="360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R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292720" y="5589720"/>
              <a:ext cx="504720" cy="360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R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"/>
            <p:cNvCxnSpPr>
              <a:stCxn id="260" idx="3"/>
              <a:endCxn id="259" idx="1"/>
            </p:cNvCxnSpPr>
            <p:nvPr/>
          </p:nvCxnSpPr>
          <p:spPr>
            <a:xfrm>
              <a:off x="5797080" y="5770080"/>
              <a:ext cx="16549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</p:cxnSp>
      </p:grpSp>
      <p:sp>
        <p:nvSpPr>
          <p:cNvPr id="262" name=""/>
          <p:cNvSpPr/>
          <p:nvPr/>
        </p:nvSpPr>
        <p:spPr>
          <a:xfrm>
            <a:off x="6012000" y="371628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12000" y="537372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ándares sopor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EEE 802.11b: 11mbps a 2412-2462MHz (11 canales, solo tres sin trasla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EEE 802.11a: 54mbps a 5180-5320MHz y 5745-5805MHz (12 de los canales s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slap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), 108Mbps Modo Turbo (4 cana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EEE 802.11g: 54mbps a 2412-2472M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nales- 802.11b/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640" y="414936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1)  canales de 22 MHz de ancho (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canales sin trasl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Access Points puéden ocupar la misma area sin interferirse entre el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27200" y="1608120"/>
            <a:ext cx="7115400" cy="2276640"/>
            <a:chOff x="727200" y="1608120"/>
            <a:chExt cx="7115400" cy="2276640"/>
          </a:xfrm>
        </p:grpSpPr>
        <p:sp>
          <p:nvSpPr>
            <p:cNvPr id="269" name=""/>
            <p:cNvSpPr/>
            <p:nvPr/>
          </p:nvSpPr>
          <p:spPr>
            <a:xfrm>
              <a:off x="3343320" y="3521160"/>
              <a:ext cx="1940040" cy="303120"/>
            </a:xfrm>
            <a:custGeom>
              <a:avLst/>
              <a:gdLst/>
              <a:ahLst/>
              <a:rect l="l" t="t" r="r" b="b"/>
              <a:pathLst>
                <a:path w="1222" h="191">
                  <a:moveTo>
                    <a:pt x="1222" y="183"/>
                  </a:moveTo>
                  <a:lnTo>
                    <a:pt x="1222" y="174"/>
                  </a:lnTo>
                  <a:lnTo>
                    <a:pt x="1220" y="164"/>
                  </a:lnTo>
                  <a:lnTo>
                    <a:pt x="1215" y="155"/>
                  </a:lnTo>
                  <a:lnTo>
                    <a:pt x="1209" y="145"/>
                  </a:lnTo>
                  <a:lnTo>
                    <a:pt x="1203" y="136"/>
                  </a:lnTo>
                  <a:lnTo>
                    <a:pt x="1186" y="119"/>
                  </a:lnTo>
                  <a:lnTo>
                    <a:pt x="1175" y="111"/>
                  </a:lnTo>
                  <a:lnTo>
                    <a:pt x="1163" y="103"/>
                  </a:lnTo>
                  <a:lnTo>
                    <a:pt x="1150" y="96"/>
                  </a:lnTo>
                  <a:lnTo>
                    <a:pt x="1135" y="88"/>
                  </a:lnTo>
                  <a:lnTo>
                    <a:pt x="1121" y="80"/>
                  </a:lnTo>
                  <a:lnTo>
                    <a:pt x="1104" y="73"/>
                  </a:lnTo>
                  <a:lnTo>
                    <a:pt x="1087" y="67"/>
                  </a:lnTo>
                  <a:lnTo>
                    <a:pt x="1068" y="61"/>
                  </a:lnTo>
                  <a:lnTo>
                    <a:pt x="1049" y="52"/>
                  </a:lnTo>
                  <a:lnTo>
                    <a:pt x="1028" y="48"/>
                  </a:lnTo>
                  <a:lnTo>
                    <a:pt x="1005" y="42"/>
                  </a:lnTo>
                  <a:lnTo>
                    <a:pt x="984" y="35"/>
                  </a:lnTo>
                  <a:lnTo>
                    <a:pt x="961" y="31"/>
                  </a:lnTo>
                  <a:lnTo>
                    <a:pt x="936" y="27"/>
                  </a:lnTo>
                  <a:lnTo>
                    <a:pt x="913" y="23"/>
                  </a:lnTo>
                  <a:lnTo>
                    <a:pt x="885" y="19"/>
                  </a:lnTo>
                  <a:lnTo>
                    <a:pt x="860" y="14"/>
                  </a:lnTo>
                  <a:lnTo>
                    <a:pt x="833" y="10"/>
                  </a:lnTo>
                  <a:lnTo>
                    <a:pt x="805" y="8"/>
                  </a:lnTo>
                  <a:lnTo>
                    <a:pt x="778" y="6"/>
                  </a:lnTo>
                  <a:lnTo>
                    <a:pt x="749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7" y="0"/>
                  </a:lnTo>
                  <a:lnTo>
                    <a:pt x="505" y="4"/>
                  </a:lnTo>
                  <a:lnTo>
                    <a:pt x="442" y="10"/>
                  </a:lnTo>
                  <a:lnTo>
                    <a:pt x="383" y="16"/>
                  </a:lnTo>
                  <a:lnTo>
                    <a:pt x="326" y="25"/>
                  </a:lnTo>
                  <a:lnTo>
                    <a:pt x="274" y="33"/>
                  </a:lnTo>
                  <a:lnTo>
                    <a:pt x="223" y="46"/>
                  </a:lnTo>
                  <a:lnTo>
                    <a:pt x="179" y="59"/>
                  </a:lnTo>
                  <a:lnTo>
                    <a:pt x="137" y="71"/>
                  </a:lnTo>
                  <a:lnTo>
                    <a:pt x="103" y="86"/>
                  </a:lnTo>
                  <a:lnTo>
                    <a:pt x="72" y="101"/>
                  </a:lnTo>
                  <a:lnTo>
                    <a:pt x="46" y="117"/>
                  </a:lnTo>
                  <a:lnTo>
                    <a:pt x="28" y="134"/>
                  </a:lnTo>
                  <a:lnTo>
                    <a:pt x="13" y="153"/>
                  </a:lnTo>
                  <a:lnTo>
                    <a:pt x="7" y="172"/>
                  </a:lnTo>
                  <a:lnTo>
                    <a:pt x="7" y="191"/>
                  </a:lnTo>
                  <a:lnTo>
                    <a:pt x="0" y="174"/>
                  </a:lnTo>
                  <a:lnTo>
                    <a:pt x="1222" y="174"/>
                  </a:lnTo>
                  <a:lnTo>
                    <a:pt x="1222" y="183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90640" y="3506760"/>
              <a:ext cx="1938240" cy="30024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737320" y="3506760"/>
              <a:ext cx="1938240" cy="30024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8" y="145"/>
                  </a:lnTo>
                  <a:lnTo>
                    <a:pt x="1202" y="137"/>
                  </a:lnTo>
                  <a:lnTo>
                    <a:pt x="1185" y="120"/>
                  </a:lnTo>
                  <a:lnTo>
                    <a:pt x="1175" y="112"/>
                  </a:lnTo>
                  <a:lnTo>
                    <a:pt x="1162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0" y="80"/>
                  </a:lnTo>
                  <a:lnTo>
                    <a:pt x="1103" y="74"/>
                  </a:lnTo>
                  <a:lnTo>
                    <a:pt x="1086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4" y="42"/>
                  </a:lnTo>
                  <a:lnTo>
                    <a:pt x="983" y="36"/>
                  </a:lnTo>
                  <a:lnTo>
                    <a:pt x="960" y="32"/>
                  </a:lnTo>
                  <a:lnTo>
                    <a:pt x="935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59" y="15"/>
                  </a:lnTo>
                  <a:lnTo>
                    <a:pt x="832" y="11"/>
                  </a:lnTo>
                  <a:lnTo>
                    <a:pt x="805" y="9"/>
                  </a:lnTo>
                  <a:lnTo>
                    <a:pt x="777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89" y="0"/>
                  </a:lnTo>
                  <a:lnTo>
                    <a:pt x="628" y="0"/>
                  </a:lnTo>
                  <a:lnTo>
                    <a:pt x="637" y="0"/>
                  </a:lnTo>
                  <a:lnTo>
                    <a:pt x="504" y="4"/>
                  </a:lnTo>
                  <a:lnTo>
                    <a:pt x="441" y="9"/>
                  </a:lnTo>
                  <a:lnTo>
                    <a:pt x="382" y="17"/>
                  </a:lnTo>
                  <a:lnTo>
                    <a:pt x="325" y="23"/>
                  </a:lnTo>
                  <a:lnTo>
                    <a:pt x="273" y="34"/>
                  </a:lnTo>
                  <a:lnTo>
                    <a:pt x="222" y="44"/>
                  </a:lnTo>
                  <a:lnTo>
                    <a:pt x="178" y="57"/>
                  </a:lnTo>
                  <a:lnTo>
                    <a:pt x="136" y="70"/>
                  </a:lnTo>
                  <a:lnTo>
                    <a:pt x="103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2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74880" y="1932120"/>
              <a:ext cx="1440" cy="195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59080" y="1908000"/>
              <a:ext cx="1440" cy="195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27200" y="3857760"/>
              <a:ext cx="7038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28880" y="1892160"/>
              <a:ext cx="1800" cy="195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30720" y="1892160"/>
              <a:ext cx="1440" cy="195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14920" y="1892160"/>
              <a:ext cx="1440" cy="195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97320" y="1892160"/>
              <a:ext cx="1800" cy="195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51280" y="1892160"/>
              <a:ext cx="1800" cy="195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05240" y="1892160"/>
              <a:ext cx="1800" cy="195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722920" y="1892160"/>
              <a:ext cx="1440" cy="195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97760" y="1878120"/>
              <a:ext cx="1440" cy="195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76920" y="1928880"/>
              <a:ext cx="1800" cy="195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390680" y="3112920"/>
              <a:ext cx="1940040" cy="300240"/>
            </a:xfrm>
            <a:custGeom>
              <a:avLst/>
              <a:gdLst/>
              <a:ahLst/>
              <a:rect l="l" t="t" r="r" b="b"/>
              <a:pathLst>
                <a:path w="1222" h="189">
                  <a:moveTo>
                    <a:pt x="1222" y="181"/>
                  </a:moveTo>
                  <a:lnTo>
                    <a:pt x="1222" y="173"/>
                  </a:lnTo>
                  <a:lnTo>
                    <a:pt x="1220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6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6" y="88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7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7"/>
                  </a:lnTo>
                  <a:lnTo>
                    <a:pt x="913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6" y="9"/>
                  </a:lnTo>
                  <a:lnTo>
                    <a:pt x="778" y="6"/>
                  </a:lnTo>
                  <a:lnTo>
                    <a:pt x="749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3" y="4"/>
                  </a:lnTo>
                  <a:lnTo>
                    <a:pt x="440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2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2" y="101"/>
                  </a:lnTo>
                  <a:lnTo>
                    <a:pt x="47" y="116"/>
                  </a:lnTo>
                  <a:lnTo>
                    <a:pt x="28" y="135"/>
                  </a:lnTo>
                  <a:lnTo>
                    <a:pt x="13" y="152"/>
                  </a:lnTo>
                  <a:lnTo>
                    <a:pt x="7" y="170"/>
                  </a:lnTo>
                  <a:lnTo>
                    <a:pt x="7" y="189"/>
                  </a:lnTo>
                  <a:lnTo>
                    <a:pt x="0" y="173"/>
                  </a:lnTo>
                  <a:lnTo>
                    <a:pt x="1222" y="173"/>
                  </a:lnTo>
                  <a:lnTo>
                    <a:pt x="1222" y="181"/>
                  </a:lnTo>
                  <a:close/>
                </a:path>
              </a:pathLst>
            </a:custGeom>
            <a:solidFill>
              <a:srgbClr val="ff66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27520" y="3127320"/>
              <a:ext cx="1938240" cy="303120"/>
            </a:xfrm>
            <a:custGeom>
              <a:avLst/>
              <a:gdLst/>
              <a:ahLst/>
              <a:rect l="l" t="t" r="r" b="b"/>
              <a:pathLst>
                <a:path w="1221" h="191">
                  <a:moveTo>
                    <a:pt x="1221" y="182"/>
                  </a:moveTo>
                  <a:lnTo>
                    <a:pt x="1221" y="174"/>
                  </a:lnTo>
                  <a:lnTo>
                    <a:pt x="1219" y="164"/>
                  </a:lnTo>
                  <a:lnTo>
                    <a:pt x="1215" y="155"/>
                  </a:lnTo>
                  <a:lnTo>
                    <a:pt x="1209" y="145"/>
                  </a:lnTo>
                  <a:lnTo>
                    <a:pt x="1203" y="136"/>
                  </a:lnTo>
                  <a:lnTo>
                    <a:pt x="1186" y="119"/>
                  </a:lnTo>
                  <a:lnTo>
                    <a:pt x="1175" y="111"/>
                  </a:lnTo>
                  <a:lnTo>
                    <a:pt x="1163" y="103"/>
                  </a:lnTo>
                  <a:lnTo>
                    <a:pt x="1150" y="96"/>
                  </a:lnTo>
                  <a:lnTo>
                    <a:pt x="1135" y="88"/>
                  </a:lnTo>
                  <a:lnTo>
                    <a:pt x="1121" y="79"/>
                  </a:lnTo>
                  <a:lnTo>
                    <a:pt x="1104" y="73"/>
                  </a:lnTo>
                  <a:lnTo>
                    <a:pt x="1087" y="67"/>
                  </a:lnTo>
                  <a:lnTo>
                    <a:pt x="1068" y="61"/>
                  </a:lnTo>
                  <a:lnTo>
                    <a:pt x="1049" y="52"/>
                  </a:lnTo>
                  <a:lnTo>
                    <a:pt x="1028" y="48"/>
                  </a:lnTo>
                  <a:lnTo>
                    <a:pt x="1005" y="42"/>
                  </a:lnTo>
                  <a:lnTo>
                    <a:pt x="984" y="35"/>
                  </a:lnTo>
                  <a:lnTo>
                    <a:pt x="961" y="31"/>
                  </a:lnTo>
                  <a:lnTo>
                    <a:pt x="936" y="27"/>
                  </a:lnTo>
                  <a:lnTo>
                    <a:pt x="912" y="23"/>
                  </a:lnTo>
                  <a:lnTo>
                    <a:pt x="885" y="18"/>
                  </a:lnTo>
                  <a:lnTo>
                    <a:pt x="860" y="14"/>
                  </a:lnTo>
                  <a:lnTo>
                    <a:pt x="833" y="10"/>
                  </a:lnTo>
                  <a:lnTo>
                    <a:pt x="805" y="8"/>
                  </a:lnTo>
                  <a:lnTo>
                    <a:pt x="778" y="6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7" y="0"/>
                  </a:lnTo>
                  <a:lnTo>
                    <a:pt x="505" y="4"/>
                  </a:lnTo>
                  <a:lnTo>
                    <a:pt x="442" y="10"/>
                  </a:lnTo>
                  <a:lnTo>
                    <a:pt x="383" y="16"/>
                  </a:lnTo>
                  <a:lnTo>
                    <a:pt x="326" y="25"/>
                  </a:lnTo>
                  <a:lnTo>
                    <a:pt x="273" y="33"/>
                  </a:lnTo>
                  <a:lnTo>
                    <a:pt x="223" y="46"/>
                  </a:lnTo>
                  <a:lnTo>
                    <a:pt x="179" y="58"/>
                  </a:lnTo>
                  <a:lnTo>
                    <a:pt x="139" y="71"/>
                  </a:lnTo>
                  <a:lnTo>
                    <a:pt x="103" y="86"/>
                  </a:lnTo>
                  <a:lnTo>
                    <a:pt x="72" y="100"/>
                  </a:lnTo>
                  <a:lnTo>
                    <a:pt x="46" y="117"/>
                  </a:lnTo>
                  <a:lnTo>
                    <a:pt x="27" y="134"/>
                  </a:lnTo>
                  <a:lnTo>
                    <a:pt x="15" y="153"/>
                  </a:lnTo>
                  <a:lnTo>
                    <a:pt x="8" y="172"/>
                  </a:lnTo>
                  <a:lnTo>
                    <a:pt x="8" y="191"/>
                  </a:lnTo>
                  <a:lnTo>
                    <a:pt x="0" y="174"/>
                  </a:lnTo>
                  <a:lnTo>
                    <a:pt x="1221" y="174"/>
                  </a:lnTo>
                  <a:lnTo>
                    <a:pt x="1221" y="182"/>
                  </a:lnTo>
                  <a:close/>
                </a:path>
              </a:pathLst>
            </a:custGeom>
            <a:solidFill>
              <a:srgbClr val="ff66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74880" y="2749680"/>
              <a:ext cx="1940040" cy="299880"/>
            </a:xfrm>
            <a:custGeom>
              <a:avLst/>
              <a:gdLst/>
              <a:ahLst/>
              <a:rect l="l" t="t" r="r" b="b"/>
              <a:pathLst>
                <a:path w="1222" h="189">
                  <a:moveTo>
                    <a:pt x="1222" y="181"/>
                  </a:moveTo>
                  <a:lnTo>
                    <a:pt x="1222" y="172"/>
                  </a:lnTo>
                  <a:lnTo>
                    <a:pt x="1220" y="162"/>
                  </a:lnTo>
                  <a:lnTo>
                    <a:pt x="1215" y="153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1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8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7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8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7"/>
                  </a:lnTo>
                  <a:lnTo>
                    <a:pt x="913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8"/>
                  </a:lnTo>
                  <a:lnTo>
                    <a:pt x="778" y="6"/>
                  </a:lnTo>
                  <a:lnTo>
                    <a:pt x="749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3" y="4"/>
                  </a:lnTo>
                  <a:lnTo>
                    <a:pt x="440" y="11"/>
                  </a:lnTo>
                  <a:lnTo>
                    <a:pt x="381" y="17"/>
                  </a:lnTo>
                  <a:lnTo>
                    <a:pt x="324" y="25"/>
                  </a:lnTo>
                  <a:lnTo>
                    <a:pt x="271" y="34"/>
                  </a:lnTo>
                  <a:lnTo>
                    <a:pt x="223" y="46"/>
                  </a:lnTo>
                  <a:lnTo>
                    <a:pt x="179" y="57"/>
                  </a:lnTo>
                  <a:lnTo>
                    <a:pt x="137" y="71"/>
                  </a:lnTo>
                  <a:lnTo>
                    <a:pt x="101" y="86"/>
                  </a:lnTo>
                  <a:lnTo>
                    <a:pt x="72" y="101"/>
                  </a:lnTo>
                  <a:lnTo>
                    <a:pt x="46" y="118"/>
                  </a:lnTo>
                  <a:lnTo>
                    <a:pt x="28" y="135"/>
                  </a:lnTo>
                  <a:lnTo>
                    <a:pt x="13" y="151"/>
                  </a:lnTo>
                  <a:lnTo>
                    <a:pt x="6" y="170"/>
                  </a:lnTo>
                  <a:lnTo>
                    <a:pt x="6" y="189"/>
                  </a:lnTo>
                  <a:lnTo>
                    <a:pt x="0" y="172"/>
                  </a:lnTo>
                  <a:lnTo>
                    <a:pt x="1222" y="172"/>
                  </a:lnTo>
                  <a:lnTo>
                    <a:pt x="1222" y="181"/>
                  </a:lnTo>
                  <a:close/>
                </a:path>
              </a:pathLst>
            </a:custGeom>
            <a:solidFill>
              <a:srgbClr val="ff99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76360" y="2416320"/>
              <a:ext cx="1938600" cy="303120"/>
            </a:xfrm>
            <a:custGeom>
              <a:avLst/>
              <a:gdLst/>
              <a:ahLst/>
              <a:rect l="l" t="t" r="r" b="b"/>
              <a:pathLst>
                <a:path w="1221" h="191">
                  <a:moveTo>
                    <a:pt x="1221" y="183"/>
                  </a:moveTo>
                  <a:lnTo>
                    <a:pt x="1221" y="172"/>
                  </a:lnTo>
                  <a:lnTo>
                    <a:pt x="1219" y="162"/>
                  </a:lnTo>
                  <a:lnTo>
                    <a:pt x="1215" y="153"/>
                  </a:lnTo>
                  <a:lnTo>
                    <a:pt x="1208" y="145"/>
                  </a:lnTo>
                  <a:lnTo>
                    <a:pt x="1202" y="136"/>
                  </a:lnTo>
                  <a:lnTo>
                    <a:pt x="1185" y="120"/>
                  </a:lnTo>
                  <a:lnTo>
                    <a:pt x="1175" y="111"/>
                  </a:lnTo>
                  <a:lnTo>
                    <a:pt x="1162" y="103"/>
                  </a:lnTo>
                  <a:lnTo>
                    <a:pt x="1149" y="94"/>
                  </a:lnTo>
                  <a:lnTo>
                    <a:pt x="1135" y="88"/>
                  </a:lnTo>
                  <a:lnTo>
                    <a:pt x="1120" y="80"/>
                  </a:lnTo>
                  <a:lnTo>
                    <a:pt x="1103" y="73"/>
                  </a:lnTo>
                  <a:lnTo>
                    <a:pt x="1086" y="67"/>
                  </a:lnTo>
                  <a:lnTo>
                    <a:pt x="1068" y="59"/>
                  </a:lnTo>
                  <a:lnTo>
                    <a:pt x="1049" y="52"/>
                  </a:lnTo>
                  <a:lnTo>
                    <a:pt x="1028" y="48"/>
                  </a:lnTo>
                  <a:lnTo>
                    <a:pt x="1004" y="42"/>
                  </a:lnTo>
                  <a:lnTo>
                    <a:pt x="983" y="36"/>
                  </a:lnTo>
                  <a:lnTo>
                    <a:pt x="960" y="31"/>
                  </a:lnTo>
                  <a:lnTo>
                    <a:pt x="935" y="27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59" y="14"/>
                  </a:lnTo>
                  <a:lnTo>
                    <a:pt x="832" y="10"/>
                  </a:lnTo>
                  <a:lnTo>
                    <a:pt x="805" y="8"/>
                  </a:lnTo>
                  <a:lnTo>
                    <a:pt x="777" y="6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89" y="0"/>
                  </a:lnTo>
                  <a:lnTo>
                    <a:pt x="628" y="0"/>
                  </a:lnTo>
                  <a:lnTo>
                    <a:pt x="634" y="0"/>
                  </a:lnTo>
                  <a:lnTo>
                    <a:pt x="502" y="4"/>
                  </a:lnTo>
                  <a:lnTo>
                    <a:pt x="439" y="10"/>
                  </a:lnTo>
                  <a:lnTo>
                    <a:pt x="380" y="17"/>
                  </a:lnTo>
                  <a:lnTo>
                    <a:pt x="323" y="25"/>
                  </a:lnTo>
                  <a:lnTo>
                    <a:pt x="271" y="33"/>
                  </a:lnTo>
                  <a:lnTo>
                    <a:pt x="222" y="46"/>
                  </a:lnTo>
                  <a:lnTo>
                    <a:pt x="178" y="59"/>
                  </a:lnTo>
                  <a:lnTo>
                    <a:pt x="136" y="71"/>
                  </a:lnTo>
                  <a:lnTo>
                    <a:pt x="100" y="86"/>
                  </a:lnTo>
                  <a:lnTo>
                    <a:pt x="71" y="101"/>
                  </a:lnTo>
                  <a:lnTo>
                    <a:pt x="46" y="117"/>
                  </a:lnTo>
                  <a:lnTo>
                    <a:pt x="27" y="134"/>
                  </a:lnTo>
                  <a:lnTo>
                    <a:pt x="12" y="153"/>
                  </a:lnTo>
                  <a:lnTo>
                    <a:pt x="6" y="172"/>
                  </a:lnTo>
                  <a:lnTo>
                    <a:pt x="6" y="191"/>
                  </a:lnTo>
                  <a:lnTo>
                    <a:pt x="0" y="174"/>
                  </a:lnTo>
                  <a:lnTo>
                    <a:pt x="1221" y="174"/>
                  </a:lnTo>
                  <a:lnTo>
                    <a:pt x="1221" y="18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281480" y="2762280"/>
              <a:ext cx="1938240" cy="304920"/>
            </a:xfrm>
            <a:custGeom>
              <a:avLst/>
              <a:gdLst/>
              <a:ahLst/>
              <a:rect l="l" t="t" r="r" b="b"/>
              <a:pathLst>
                <a:path w="1221" h="192">
                  <a:moveTo>
                    <a:pt x="1221" y="183"/>
                  </a:moveTo>
                  <a:lnTo>
                    <a:pt x="1221" y="175"/>
                  </a:lnTo>
                  <a:lnTo>
                    <a:pt x="1219" y="164"/>
                  </a:lnTo>
                  <a:lnTo>
                    <a:pt x="1215" y="156"/>
                  </a:lnTo>
                  <a:lnTo>
                    <a:pt x="1209" y="145"/>
                  </a:lnTo>
                  <a:lnTo>
                    <a:pt x="1202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7"/>
                  </a:lnTo>
                  <a:lnTo>
                    <a:pt x="1135" y="89"/>
                  </a:lnTo>
                  <a:lnTo>
                    <a:pt x="1120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61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7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8" y="28"/>
                  </a:lnTo>
                  <a:lnTo>
                    <a:pt x="912" y="24"/>
                  </a:lnTo>
                  <a:lnTo>
                    <a:pt x="887" y="19"/>
                  </a:lnTo>
                  <a:lnTo>
                    <a:pt x="860" y="15"/>
                  </a:lnTo>
                  <a:lnTo>
                    <a:pt x="835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50" y="5"/>
                  </a:lnTo>
                  <a:lnTo>
                    <a:pt x="721" y="3"/>
                  </a:lnTo>
                  <a:lnTo>
                    <a:pt x="692" y="0"/>
                  </a:lnTo>
                  <a:lnTo>
                    <a:pt x="631" y="0"/>
                  </a:lnTo>
                  <a:lnTo>
                    <a:pt x="637" y="0"/>
                  </a:lnTo>
                  <a:lnTo>
                    <a:pt x="505" y="5"/>
                  </a:lnTo>
                  <a:lnTo>
                    <a:pt x="441" y="11"/>
                  </a:lnTo>
                  <a:lnTo>
                    <a:pt x="383" y="17"/>
                  </a:lnTo>
                  <a:lnTo>
                    <a:pt x="326" y="26"/>
                  </a:lnTo>
                  <a:lnTo>
                    <a:pt x="273" y="34"/>
                  </a:lnTo>
                  <a:lnTo>
                    <a:pt x="225" y="47"/>
                  </a:lnTo>
                  <a:lnTo>
                    <a:pt x="181" y="59"/>
                  </a:lnTo>
                  <a:lnTo>
                    <a:pt x="139" y="72"/>
                  </a:lnTo>
                  <a:lnTo>
                    <a:pt x="103" y="87"/>
                  </a:lnTo>
                  <a:lnTo>
                    <a:pt x="74" y="101"/>
                  </a:lnTo>
                  <a:lnTo>
                    <a:pt x="48" y="118"/>
                  </a:lnTo>
                  <a:lnTo>
                    <a:pt x="29" y="135"/>
                  </a:lnTo>
                  <a:lnTo>
                    <a:pt x="15" y="154"/>
                  </a:lnTo>
                  <a:lnTo>
                    <a:pt x="8" y="173"/>
                  </a:lnTo>
                  <a:lnTo>
                    <a:pt x="8" y="192"/>
                  </a:lnTo>
                  <a:lnTo>
                    <a:pt x="0" y="175"/>
                  </a:lnTo>
                  <a:lnTo>
                    <a:pt x="1221" y="175"/>
                  </a:lnTo>
                  <a:lnTo>
                    <a:pt x="1221" y="183"/>
                  </a:lnTo>
                  <a:close/>
                </a:path>
              </a:pathLst>
            </a:custGeom>
            <a:solidFill>
              <a:srgbClr val="ff99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43280" y="2082960"/>
              <a:ext cx="1938240" cy="303120"/>
            </a:xfrm>
            <a:custGeom>
              <a:avLst/>
              <a:gdLst/>
              <a:ahLst/>
              <a:rect l="l" t="t" r="r" b="b"/>
              <a:pathLst>
                <a:path w="1221" h="191">
                  <a:moveTo>
                    <a:pt x="1221" y="182"/>
                  </a:moveTo>
                  <a:lnTo>
                    <a:pt x="1221" y="174"/>
                  </a:lnTo>
                  <a:lnTo>
                    <a:pt x="1219" y="164"/>
                  </a:lnTo>
                  <a:lnTo>
                    <a:pt x="1215" y="155"/>
                  </a:lnTo>
                  <a:lnTo>
                    <a:pt x="1209" y="145"/>
                  </a:lnTo>
                  <a:lnTo>
                    <a:pt x="1202" y="136"/>
                  </a:lnTo>
                  <a:lnTo>
                    <a:pt x="1186" y="119"/>
                  </a:lnTo>
                  <a:lnTo>
                    <a:pt x="1175" y="111"/>
                  </a:lnTo>
                  <a:lnTo>
                    <a:pt x="1162" y="103"/>
                  </a:lnTo>
                  <a:lnTo>
                    <a:pt x="1150" y="96"/>
                  </a:lnTo>
                  <a:lnTo>
                    <a:pt x="1135" y="88"/>
                  </a:lnTo>
                  <a:lnTo>
                    <a:pt x="1120" y="79"/>
                  </a:lnTo>
                  <a:lnTo>
                    <a:pt x="1104" y="73"/>
                  </a:lnTo>
                  <a:lnTo>
                    <a:pt x="1087" y="67"/>
                  </a:lnTo>
                  <a:lnTo>
                    <a:pt x="1068" y="61"/>
                  </a:lnTo>
                  <a:lnTo>
                    <a:pt x="1049" y="52"/>
                  </a:lnTo>
                  <a:lnTo>
                    <a:pt x="1028" y="48"/>
                  </a:lnTo>
                  <a:lnTo>
                    <a:pt x="1005" y="42"/>
                  </a:lnTo>
                  <a:lnTo>
                    <a:pt x="984" y="35"/>
                  </a:lnTo>
                  <a:lnTo>
                    <a:pt x="961" y="31"/>
                  </a:lnTo>
                  <a:lnTo>
                    <a:pt x="935" y="27"/>
                  </a:lnTo>
                  <a:lnTo>
                    <a:pt x="912" y="23"/>
                  </a:lnTo>
                  <a:lnTo>
                    <a:pt x="885" y="18"/>
                  </a:lnTo>
                  <a:lnTo>
                    <a:pt x="860" y="14"/>
                  </a:lnTo>
                  <a:lnTo>
                    <a:pt x="832" y="10"/>
                  </a:lnTo>
                  <a:lnTo>
                    <a:pt x="805" y="8"/>
                  </a:lnTo>
                  <a:lnTo>
                    <a:pt x="778" y="6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89" y="0"/>
                  </a:lnTo>
                  <a:lnTo>
                    <a:pt x="628" y="0"/>
                  </a:lnTo>
                  <a:lnTo>
                    <a:pt x="637" y="0"/>
                  </a:lnTo>
                  <a:lnTo>
                    <a:pt x="504" y="4"/>
                  </a:lnTo>
                  <a:lnTo>
                    <a:pt x="441" y="10"/>
                  </a:lnTo>
                  <a:lnTo>
                    <a:pt x="382" y="16"/>
                  </a:lnTo>
                  <a:lnTo>
                    <a:pt x="326" y="25"/>
                  </a:lnTo>
                  <a:lnTo>
                    <a:pt x="273" y="33"/>
                  </a:lnTo>
                  <a:lnTo>
                    <a:pt x="223" y="46"/>
                  </a:lnTo>
                  <a:lnTo>
                    <a:pt x="179" y="58"/>
                  </a:lnTo>
                  <a:lnTo>
                    <a:pt x="139" y="71"/>
                  </a:lnTo>
                  <a:lnTo>
                    <a:pt x="103" y="86"/>
                  </a:lnTo>
                  <a:lnTo>
                    <a:pt x="71" y="100"/>
                  </a:lnTo>
                  <a:lnTo>
                    <a:pt x="46" y="117"/>
                  </a:lnTo>
                  <a:lnTo>
                    <a:pt x="27" y="134"/>
                  </a:lnTo>
                  <a:lnTo>
                    <a:pt x="15" y="153"/>
                  </a:lnTo>
                  <a:lnTo>
                    <a:pt x="8" y="172"/>
                  </a:lnTo>
                  <a:lnTo>
                    <a:pt x="8" y="191"/>
                  </a:lnTo>
                  <a:lnTo>
                    <a:pt x="0" y="174"/>
                  </a:lnTo>
                  <a:lnTo>
                    <a:pt x="1221" y="174"/>
                  </a:lnTo>
                  <a:lnTo>
                    <a:pt x="1221" y="182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68920" y="2386080"/>
              <a:ext cx="1938240" cy="29988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2"/>
                  </a:lnTo>
                  <a:lnTo>
                    <a:pt x="1219" y="162"/>
                  </a:lnTo>
                  <a:lnTo>
                    <a:pt x="1215" y="153"/>
                  </a:lnTo>
                  <a:lnTo>
                    <a:pt x="1209" y="145"/>
                  </a:lnTo>
                  <a:lnTo>
                    <a:pt x="1202" y="136"/>
                  </a:lnTo>
                  <a:lnTo>
                    <a:pt x="1186" y="120"/>
                  </a:lnTo>
                  <a:lnTo>
                    <a:pt x="1175" y="111"/>
                  </a:lnTo>
                  <a:lnTo>
                    <a:pt x="1162" y="103"/>
                  </a:lnTo>
                  <a:lnTo>
                    <a:pt x="1150" y="94"/>
                  </a:lnTo>
                  <a:lnTo>
                    <a:pt x="1135" y="88"/>
                  </a:lnTo>
                  <a:lnTo>
                    <a:pt x="1120" y="80"/>
                  </a:lnTo>
                  <a:lnTo>
                    <a:pt x="1104" y="73"/>
                  </a:lnTo>
                  <a:lnTo>
                    <a:pt x="1087" y="67"/>
                  </a:lnTo>
                  <a:lnTo>
                    <a:pt x="1068" y="59"/>
                  </a:lnTo>
                  <a:lnTo>
                    <a:pt x="1049" y="52"/>
                  </a:lnTo>
                  <a:lnTo>
                    <a:pt x="1028" y="48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1"/>
                  </a:lnTo>
                  <a:lnTo>
                    <a:pt x="935" y="27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2" y="10"/>
                  </a:lnTo>
                  <a:lnTo>
                    <a:pt x="805" y="8"/>
                  </a:lnTo>
                  <a:lnTo>
                    <a:pt x="778" y="6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89" y="0"/>
                  </a:lnTo>
                  <a:lnTo>
                    <a:pt x="628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10"/>
                  </a:lnTo>
                  <a:lnTo>
                    <a:pt x="380" y="17"/>
                  </a:lnTo>
                  <a:lnTo>
                    <a:pt x="324" y="25"/>
                  </a:lnTo>
                  <a:lnTo>
                    <a:pt x="271" y="33"/>
                  </a:lnTo>
                  <a:lnTo>
                    <a:pt x="223" y="46"/>
                  </a:lnTo>
                  <a:lnTo>
                    <a:pt x="179" y="57"/>
                  </a:lnTo>
                  <a:lnTo>
                    <a:pt x="137" y="71"/>
                  </a:lnTo>
                  <a:lnTo>
                    <a:pt x="101" y="86"/>
                  </a:lnTo>
                  <a:lnTo>
                    <a:pt x="71" y="101"/>
                  </a:lnTo>
                  <a:lnTo>
                    <a:pt x="46" y="118"/>
                  </a:lnTo>
                  <a:lnTo>
                    <a:pt x="27" y="134"/>
                  </a:lnTo>
                  <a:lnTo>
                    <a:pt x="12" y="151"/>
                  </a:lnTo>
                  <a:lnTo>
                    <a:pt x="6" y="170"/>
                  </a:lnTo>
                  <a:lnTo>
                    <a:pt x="6" y="189"/>
                  </a:lnTo>
                  <a:lnTo>
                    <a:pt x="0" y="174"/>
                  </a:lnTo>
                  <a:lnTo>
                    <a:pt x="1221" y="174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35480" y="2004840"/>
              <a:ext cx="1940040" cy="303480"/>
            </a:xfrm>
            <a:custGeom>
              <a:avLst/>
              <a:gdLst/>
              <a:ahLst/>
              <a:rect l="l" t="t" r="r" b="b"/>
              <a:pathLst>
                <a:path w="1222" h="191">
                  <a:moveTo>
                    <a:pt x="1222" y="183"/>
                  </a:moveTo>
                  <a:lnTo>
                    <a:pt x="1222" y="175"/>
                  </a:lnTo>
                  <a:lnTo>
                    <a:pt x="1220" y="164"/>
                  </a:lnTo>
                  <a:lnTo>
                    <a:pt x="1215" y="156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7"/>
                  </a:lnTo>
                  <a:lnTo>
                    <a:pt x="1135" y="88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7"/>
                  </a:lnTo>
                  <a:lnTo>
                    <a:pt x="1068" y="61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7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8" y="28"/>
                  </a:lnTo>
                  <a:lnTo>
                    <a:pt x="913" y="23"/>
                  </a:lnTo>
                  <a:lnTo>
                    <a:pt x="887" y="19"/>
                  </a:lnTo>
                  <a:lnTo>
                    <a:pt x="860" y="15"/>
                  </a:lnTo>
                  <a:lnTo>
                    <a:pt x="835" y="11"/>
                  </a:lnTo>
                  <a:lnTo>
                    <a:pt x="805" y="9"/>
                  </a:lnTo>
                  <a:lnTo>
                    <a:pt x="778" y="6"/>
                  </a:lnTo>
                  <a:lnTo>
                    <a:pt x="751" y="4"/>
                  </a:lnTo>
                  <a:lnTo>
                    <a:pt x="721" y="2"/>
                  </a:lnTo>
                  <a:lnTo>
                    <a:pt x="692" y="0"/>
                  </a:lnTo>
                  <a:lnTo>
                    <a:pt x="631" y="0"/>
                  </a:lnTo>
                  <a:lnTo>
                    <a:pt x="637" y="0"/>
                  </a:lnTo>
                  <a:lnTo>
                    <a:pt x="505" y="4"/>
                  </a:lnTo>
                  <a:lnTo>
                    <a:pt x="442" y="11"/>
                  </a:lnTo>
                  <a:lnTo>
                    <a:pt x="383" y="17"/>
                  </a:lnTo>
                  <a:lnTo>
                    <a:pt x="326" y="25"/>
                  </a:lnTo>
                  <a:lnTo>
                    <a:pt x="274" y="34"/>
                  </a:lnTo>
                  <a:lnTo>
                    <a:pt x="225" y="46"/>
                  </a:lnTo>
                  <a:lnTo>
                    <a:pt x="181" y="59"/>
                  </a:lnTo>
                  <a:lnTo>
                    <a:pt x="139" y="72"/>
                  </a:lnTo>
                  <a:lnTo>
                    <a:pt x="103" y="86"/>
                  </a:lnTo>
                  <a:lnTo>
                    <a:pt x="74" y="101"/>
                  </a:lnTo>
                  <a:lnTo>
                    <a:pt x="49" y="118"/>
                  </a:lnTo>
                  <a:lnTo>
                    <a:pt x="30" y="135"/>
                  </a:lnTo>
                  <a:lnTo>
                    <a:pt x="15" y="154"/>
                  </a:lnTo>
                  <a:lnTo>
                    <a:pt x="9" y="173"/>
                  </a:lnTo>
                  <a:lnTo>
                    <a:pt x="9" y="191"/>
                  </a:lnTo>
                  <a:lnTo>
                    <a:pt x="0" y="175"/>
                  </a:lnTo>
                  <a:lnTo>
                    <a:pt x="1222" y="175"/>
                  </a:lnTo>
                  <a:lnTo>
                    <a:pt x="1222" y="183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90640" y="2068560"/>
              <a:ext cx="1440" cy="17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748640" y="2085840"/>
              <a:ext cx="1440" cy="177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14400" y="1631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92480" y="16351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82800" y="16178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90760" y="1631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70280" y="16207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241880" y="16081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692600" y="16146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162400" y="1631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56320" y="16146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10640" y="16178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18600" y="16207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28920" y="1808280"/>
              <a:ext cx="5486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84800" y="183528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4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476120" y="169236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48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nales- 802.11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9640" y="508464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2)  canales de 20 MHz de an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5) canales de 40MHz de an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542160" y="1628640"/>
            <a:ext cx="7710120" cy="3438720"/>
            <a:chOff x="542160" y="1628640"/>
            <a:chExt cx="7710120" cy="3438720"/>
          </a:xfrm>
        </p:grpSpPr>
        <p:sp>
          <p:nvSpPr>
            <p:cNvPr id="311" name=""/>
            <p:cNvSpPr/>
            <p:nvPr/>
          </p:nvSpPr>
          <p:spPr>
            <a:xfrm>
              <a:off x="3705120" y="3933720"/>
              <a:ext cx="32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76400" y="3933720"/>
              <a:ext cx="32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97080" y="1917720"/>
              <a:ext cx="1440" cy="108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062160" y="1917720"/>
              <a:ext cx="1800" cy="108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25800" y="1917720"/>
              <a:ext cx="1800" cy="108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33440" y="1917720"/>
              <a:ext cx="1800" cy="108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8640" y="2994120"/>
              <a:ext cx="72993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57080" y="1989000"/>
              <a:ext cx="1800" cy="981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28000" y="2060640"/>
              <a:ext cx="9360" cy="9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5892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12436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116000" y="1844640"/>
              <a:ext cx="6480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42160" y="307008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15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01800" y="2637000"/>
              <a:ext cx="86364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65440" y="2637000"/>
              <a:ext cx="86364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8800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5308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629080" y="2637000"/>
              <a:ext cx="86328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92360" y="2637000"/>
              <a:ext cx="86364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51640" y="1917720"/>
              <a:ext cx="1440" cy="108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516720" y="1917720"/>
              <a:ext cx="1440" cy="108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80360" y="1917720"/>
              <a:ext cx="1440" cy="108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88000" y="1917720"/>
              <a:ext cx="1440" cy="108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1348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7856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56000" y="2637000"/>
              <a:ext cx="86364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19640" y="2637000"/>
              <a:ext cx="86364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4220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30728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83280" y="2637000"/>
              <a:ext cx="86364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46920" y="2637000"/>
              <a:ext cx="86364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88580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35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11672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18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8036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84400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2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0908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4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7416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6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43780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8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0144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3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688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32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627280" y="2133720"/>
              <a:ext cx="32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763640" y="2276640"/>
              <a:ext cx="172728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356000" y="2133720"/>
              <a:ext cx="32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92360" y="2276640"/>
              <a:ext cx="172728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84720" y="2133720"/>
              <a:ext cx="180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219640" y="2276640"/>
              <a:ext cx="172728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12000" y="191628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1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141080" y="191628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5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868000" y="191628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9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95640" y="3718080"/>
              <a:ext cx="1440" cy="108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060720" y="3718080"/>
              <a:ext cx="1440" cy="108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24360" y="3718080"/>
              <a:ext cx="1440" cy="108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32000" y="3718080"/>
              <a:ext cx="1440" cy="108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98560" y="4797360"/>
              <a:ext cx="3457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98560" y="3789360"/>
              <a:ext cx="1440" cy="98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56000" y="3860640"/>
              <a:ext cx="9720" cy="9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88000" y="34290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49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51640" y="34290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5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114560" y="3645000"/>
              <a:ext cx="3025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83280" y="486900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73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00000" y="4437000"/>
              <a:ext cx="863640" cy="28908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763640" y="4437000"/>
              <a:ext cx="863640" cy="28908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915280" y="34290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5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80360" y="34290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6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27280" y="4437000"/>
              <a:ext cx="863640" cy="28908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90920" y="4437000"/>
              <a:ext cx="863640" cy="28908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15280" y="486900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74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978920" y="486900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76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42200" y="486900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78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07640" y="486900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80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12360" y="486900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81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114560" y="4076640"/>
              <a:ext cx="1726920" cy="28908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64360" y="371628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76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491640" y="371628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8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43280" y="4076640"/>
              <a:ext cx="1727280" cy="28908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1200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28472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5600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692720" y="34290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5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420000" y="34290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cuencias a la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kroTik RouterOS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orta las  de la band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IS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frecuencias a la medida para tarjet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Ather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24360" y="4221000"/>
            <a:ext cx="7164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55640" y="2852640"/>
            <a:ext cx="115236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12-23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124000" y="2852640"/>
            <a:ext cx="1152720" cy="936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12-24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995640" y="2852640"/>
            <a:ext cx="115272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12-27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419640" y="2852640"/>
            <a:ext cx="36036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55640" y="3932280"/>
            <a:ext cx="302436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20-51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80000" y="3932280"/>
            <a:ext cx="2447640" cy="936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80-53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227640" y="3933720"/>
            <a:ext cx="172908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30-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835280" y="5013360"/>
            <a:ext cx="194472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7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80000" y="5013360"/>
            <a:ext cx="1295280" cy="936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45-58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076720" y="5013360"/>
            <a:ext cx="345600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15-6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3860640"/>
            <a:ext cx="647640" cy="1081080"/>
          </a:xfrm>
          <a:prstGeom prst="rightArrow">
            <a:avLst>
              <a:gd name="adj1" fmla="val 80157"/>
              <a:gd name="adj2" fmla="val 2696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16000" y="4941720"/>
            <a:ext cx="647640" cy="1081080"/>
          </a:xfrm>
          <a:prstGeom prst="rightArrow">
            <a:avLst>
              <a:gd name="adj1" fmla="val 80157"/>
              <a:gd name="adj2" fmla="val 2696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nfiguraciones importantes en la int. inalámbrica en el Route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p-bridge o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ación o infraestru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SID (todos los mod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anda (Todos los mod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recuencia (ap-bridge y modo brid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ista de búsqueda (scan) (station m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6012000" y="2349360"/>
            <a:ext cx="2592000" cy="1583640"/>
            <a:chOff x="6012000" y="2349360"/>
            <a:chExt cx="2592000" cy="1583640"/>
          </a:xfrm>
        </p:grpSpPr>
        <p:sp>
          <p:nvSpPr>
            <p:cNvPr id="409" name=""/>
            <p:cNvSpPr/>
            <p:nvPr/>
          </p:nvSpPr>
          <p:spPr>
            <a:xfrm>
              <a:off x="6012000" y="3559680"/>
              <a:ext cx="535320" cy="37332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726600" y="3559680"/>
              <a:ext cx="536040" cy="37332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441920" y="3559680"/>
              <a:ext cx="535320" cy="37332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06240" y="2349360"/>
              <a:ext cx="626040" cy="465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67960" y="3559680"/>
              <a:ext cx="536040" cy="37332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4" name=""/>
            <p:cNvCxnSpPr>
              <a:stCxn id="409" idx="0"/>
              <a:endCxn id="412" idx="2"/>
            </p:cNvCxnSpPr>
            <p:nvPr/>
          </p:nvCxnSpPr>
          <p:spPr>
            <a:xfrm flipV="1">
              <a:off x="6279480" y="2814120"/>
              <a:ext cx="940320" cy="745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5" name=""/>
            <p:cNvCxnSpPr>
              <a:stCxn id="410" idx="0"/>
              <a:endCxn id="412" idx="2"/>
            </p:cNvCxnSpPr>
            <p:nvPr/>
          </p:nvCxnSpPr>
          <p:spPr>
            <a:xfrm flipV="1">
              <a:off x="6994440" y="2814120"/>
              <a:ext cx="225360" cy="745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6" name=""/>
            <p:cNvCxnSpPr>
              <a:stCxn id="411" idx="0"/>
              <a:endCxn id="412" idx="2"/>
            </p:cNvCxnSpPr>
            <p:nvPr/>
          </p:nvCxnSpPr>
          <p:spPr>
            <a:xfrm flipH="1" flipV="1">
              <a:off x="7219080" y="2814120"/>
              <a:ext cx="491040" cy="745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7" name=""/>
            <p:cNvCxnSpPr>
              <a:stCxn id="413" idx="0"/>
              <a:endCxn id="412" idx="2"/>
            </p:cNvCxnSpPr>
            <p:nvPr/>
          </p:nvCxnSpPr>
          <p:spPr>
            <a:xfrm flipH="1" flipV="1">
              <a:off x="7219080" y="2814120"/>
              <a:ext cx="1117440" cy="745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ceptos de ant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irecciona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Omni (360 grados de cobertura) direcc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reccional (rango limitado de cobertur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Ganan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dido en dBi y dBd. (0dBd = 2.14dB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as ganancia significa mas cobertura – 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en ciertas direccione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olariz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ntenas en polarización vert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7T10:13:36Z</dcterms:created>
  <dc:creator>Arnis</dc:creator>
  <dc:description/>
  <dc:language>en-US</dc:language>
  <cp:lastModifiedBy>Alfonso Urbina Araux</cp:lastModifiedBy>
  <dcterms:modified xsi:type="dcterms:W3CDTF">2006-02-24T00:03:41Z</dcterms:modified>
  <cp:revision>82</cp:revision>
  <dc:subject/>
  <dc:title>Slide 1</dc:title>
</cp:coreProperties>
</file>